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FF8-21D7-48D9-B9D0-15E83A8E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6CB-514F-44B3-9D26-4844ADB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813-2130-4476-973D-0B24A3D4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522-5DD7-41CF-86B0-A64D0EA4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BD27-3EBB-4605-A5A4-5B98F8BE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A4CB-92CF-4C91-B7C9-05E034C8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15D-6BDF-4A08-BCE4-F06DF53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8B78-39A3-4B1D-A634-4D3DAFB4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33E-6F14-46EA-B778-7B3B139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2EC-1B27-4A3A-904F-80DFC522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079-790B-4983-A7BA-BE1FABCA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D8E-9FB9-43A4-824F-569998D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3A3-FE94-4457-82B6-541FFB2F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E6A-A662-4482-8CE7-9A6050A8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58A-ADD8-4F06-9070-9700030C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7829-3F71-4A56-BB71-AF50D33C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E6C9-90F3-423F-9C1B-E80269EF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080-2436-4E2D-BC12-EF0ADF1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A22-3F40-42D2-B131-71010D3F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C50-F0CA-4E53-9500-12724BBE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BC4-A0CB-4A9E-B2D5-43FD155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9C8-7E15-4F7E-B6DD-AD1F8EE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B4D-A567-44D4-A847-460AE3C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1A8-E091-432C-B174-7432CF9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C543-DB8D-4505-99C6-4B8F546469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600F-33CA-4A31-959B-66FAB547A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173560" y="5160960"/>
            <a:ext cx="3060720" cy="7668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Lengt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609480" y="2438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_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952880" y="25146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_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609480" y="190512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49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,0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4952880" y="182880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.9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7.4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.8 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3716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X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57150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÷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6:21Z</dcterms:created>
  <dc:creator>PritchaJ</dc:creator>
  <dc:description/>
  <dc:language>en-US</dc:language>
  <cp:lastModifiedBy>PritchaJ</cp:lastModifiedBy>
  <dcterms:modified xsi:type="dcterms:W3CDTF">2011-05-24T15:38:48Z</dcterms:modified>
  <cp:revision>2</cp:revision>
  <dc:subject/>
  <dc:title>Slide 1</dc:title>
</cp:coreProperties>
</file>